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C9B-0C61-4A6E-AFD1-BB82B982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69D-8E61-4968-A016-A102E18E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3F2-ADAF-48E5-9BE8-F17262A7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8E7-7791-48F6-8B80-DAEB1C03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AC69-8E00-4F4C-B5B8-DF016286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96E0-21B0-4F8D-9831-F51BA21E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D636-CF0C-4DD9-9EEA-A03FBB7A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1F23-2735-4A5A-8D6D-6E9121BC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A392-296A-4DFE-A116-3730FC51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49BC-39F0-464E-8394-A3ECDE18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5357-C1B0-4ECE-A28A-E11D3C7F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BA7-494C-4E4C-81A8-09D65DF1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63A8-90AC-4340-9D3A-C3D54730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816F-DA67-4176-8A18-FE97F8DB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AF55-4F5A-4906-89D1-FB8F5885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7B9B-C6B3-4D17-BB03-6BCD48D7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F800-0903-4BAF-A2CC-D8921318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C579-6DA0-422E-A516-24BFDF23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4C9-2802-4399-BC72-92A8C8CC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2BA-A636-406F-8B94-9A96E9D4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305-67AF-4439-9388-8F0E23FE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025-16AA-4C76-BB09-BA94E7B8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253-25FF-48B3-952B-715FF933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A2B-D3DB-4D54-A68F-231D3996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848D-4DCE-43E9-9AF4-7E9E57FA875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BE6C-B797-4074-9DC8-FE135371796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ke this sentence have a parallel structur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 likes jogging, reading and to play baseball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 likes jogging, reading and playing baseball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l of them are now gerunds and end in i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cused Freewri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uld you rather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et the president of the U.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famous movie st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Vocabulary practice-match the word with its synony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ulminate       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gro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bominab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ur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asper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rroneo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ooris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o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bsorb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plo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correc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u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iserab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atefu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ng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ton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 do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nish story-read from second column on 538 to the en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o this writing assignment: Write one page about what happens to the family now. Remember to focus on realis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y for test-test is tomorrow! Refresh your memory on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The Open Boa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To Build a Fire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d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The Jungl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5:46:09Z</dcterms:created>
  <dc:creator>Angie</dc:creator>
  <dc:description/>
  <dc:language>en-US</dc:language>
  <cp:lastModifiedBy>Angie</cp:lastModifiedBy>
  <dcterms:modified xsi:type="dcterms:W3CDTF">2009-02-04T12:29:53Z</dcterms:modified>
  <cp:revision>3</cp:revision>
  <dc:subject/>
  <dc:title>DOL</dc:title>
</cp:coreProperties>
</file>